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67B-6306-4F96-BE62-D7B3859D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D5C-E797-4FD0-B4CC-C64CEB04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0BD-A551-44D9-8BCC-027FC5C2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49E-10AB-4850-B29D-5454613A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739-2B5E-4C82-AEBF-44F87DC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601-D6B5-45FD-9C85-25E109C4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A75-11D1-4F02-A780-7683794B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FAE-3FB2-4D02-A2A8-500BCBB6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A31-55D9-40AF-9D11-08C6980B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FC7-05CB-4883-876C-BD7DADE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43F-BFCF-4CCC-9E76-5A172DE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ACB-5754-40FC-97E3-D4D63AA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5E7F-662E-47E3-AD77-FB90DBF04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Essay Re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0960" y="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 Nara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ly H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ol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ummer of 2005 I spent an International Mission trip with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ummer of 2005, I was able to spend an International Mission trip with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ast three years Emily held an annual money gathering that raised money to go to cystic fibrosi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ast three years, Emily has held an annual fundraiser that raises money to go to cystic fibrosis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ive o’clock in the morning when I woke up and got my things all set and left the trailer towards the open pasture in which I wanted to hu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ke up at five o’clock in the morning, got my things together, and left the trailer headed towards the open pasture in which I wanted to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114800" y="609480"/>
            <a:ext cx="42004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..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 love you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0:42Z</dcterms:created>
  <dc:creator>User</dc:creator>
  <dc:description/>
  <dc:language>en-US</dc:language>
  <cp:lastModifiedBy>User</cp:lastModifiedBy>
  <dcterms:modified xsi:type="dcterms:W3CDTF">2006-10-10T19:10:26Z</dcterms:modified>
  <cp:revision>4</cp:revision>
  <dc:subject/>
  <dc:title>College Essay Revisions</dc:title>
</cp:coreProperties>
</file>